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31.xml" ContentType="application/vnd.openxmlformats-officedocument.theme+xml"/>
  <Override PartName="/ppt/theme/theme43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.png" ContentType="image/png"/>
  <Override PartName="/ppt/media/image25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notesMasterIdLst>
    <p:notesMasterId r:id="rId44"/>
  </p:notesMasterIdLst>
  <p:sldIdLst>
    <p:sldId id="256" r:id="rId45"/>
    <p:sldId id="257" r:id="rId46"/>
    <p:sldId id="258" r:id="rId47"/>
    <p:sldId id="259" r:id="rId48"/>
    <p:sldId id="260" r:id="rId49"/>
    <p:sldId id="261" r:id="rId50"/>
    <p:sldId id="262" r:id="rId51"/>
    <p:sldId id="263" r:id="rId52"/>
    <p:sldId id="264" r:id="rId53"/>
    <p:sldId id="265" r:id="rId54"/>
    <p:sldId id="266" r:id="rId55"/>
    <p:sldId id="267" r:id="rId56"/>
    <p:sldId id="268" r:id="rId57"/>
    <p:sldId id="269" r:id="rId58"/>
    <p:sldId id="270" r:id="rId59"/>
    <p:sldId id="271" r:id="rId60"/>
    <p:sldId id="272" r:id="rId61"/>
    <p:sldId id="273" r:id="rId62"/>
    <p:sldId id="274" r:id="rId6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notesMaster" Target="notesMasters/notesMaster1.xml"/><Relationship Id="rId45" Type="http://schemas.openxmlformats.org/officeDocument/2006/relationships/slide" Target="slides/slide1.xml"/><Relationship Id="rId46" Type="http://schemas.openxmlformats.org/officeDocument/2006/relationships/slide" Target="slides/slide2.xml"/><Relationship Id="rId47" Type="http://schemas.openxmlformats.org/officeDocument/2006/relationships/slide" Target="slides/slide3.xml"/><Relationship Id="rId48" Type="http://schemas.openxmlformats.org/officeDocument/2006/relationships/slide" Target="slides/slide4.xml"/><Relationship Id="rId49" Type="http://schemas.openxmlformats.org/officeDocument/2006/relationships/slide" Target="slides/slide5.xml"/><Relationship Id="rId50" Type="http://schemas.openxmlformats.org/officeDocument/2006/relationships/slide" Target="slides/slide6.xml"/><Relationship Id="rId51" Type="http://schemas.openxmlformats.org/officeDocument/2006/relationships/slide" Target="slides/slide7.xml"/><Relationship Id="rId52" Type="http://schemas.openxmlformats.org/officeDocument/2006/relationships/slide" Target="slides/slide8.xml"/><Relationship Id="rId53" Type="http://schemas.openxmlformats.org/officeDocument/2006/relationships/slide" Target="slides/slide9.xml"/><Relationship Id="rId54" Type="http://schemas.openxmlformats.org/officeDocument/2006/relationships/slide" Target="slides/slide10.xml"/><Relationship Id="rId55" Type="http://schemas.openxmlformats.org/officeDocument/2006/relationships/slide" Target="slides/slide11.xml"/><Relationship Id="rId56" Type="http://schemas.openxmlformats.org/officeDocument/2006/relationships/slide" Target="slides/slide12.xml"/><Relationship Id="rId57" Type="http://schemas.openxmlformats.org/officeDocument/2006/relationships/slide" Target="slides/slide13.xml"/><Relationship Id="rId58" Type="http://schemas.openxmlformats.org/officeDocument/2006/relationships/slide" Target="slides/slide14.xml"/><Relationship Id="rId59" Type="http://schemas.openxmlformats.org/officeDocument/2006/relationships/slide" Target="slides/slide15.xml"/><Relationship Id="rId60" Type="http://schemas.openxmlformats.org/officeDocument/2006/relationships/slide" Target="slides/slide16.xml"/><Relationship Id="rId61" Type="http://schemas.openxmlformats.org/officeDocument/2006/relationships/slide" Target="slides/slide17.xml"/><Relationship Id="rId62" Type="http://schemas.openxmlformats.org/officeDocument/2006/relationships/slide" Target="slides/slide18.xml"/><Relationship Id="rId63" Type="http://schemas.openxmlformats.org/officeDocument/2006/relationships/slide" Target="slides/slide1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9116B-E6B2-431A-A44F-1F0153332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E458A-CBEB-40DC-86AF-6A6561D7A664}" type="slidenum">
              <a:rPr b="0" lang="en-US" sz="1200" spc="-1" strike="noStrike">
                <a:solidFill>
                  <a:srgbClr val="314b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14b56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Verwijzing naar cirkels + uitleg ‘verloren energie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0358D-A681-4B51-B718-C0B28BED1C1B}" type="slidenum">
              <a:rPr b="0" lang="en-US" sz="1200" spc="-1" strike="noStrike">
                <a:solidFill>
                  <a:srgbClr val="314b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14b56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Cijfers toevoegen per 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5B44E-7B82-42C3-B95D-9D5361ED2C0F}" type="slidenum">
              <a:rPr b="0" lang="en-US" sz="1200" spc="-1" strike="noStrike">
                <a:solidFill>
                  <a:srgbClr val="314b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14b56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69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915B2-9477-4293-9A8E-80E62525FEA3}" type="slidenum">
              <a:rPr b="0" lang="en-US" sz="1200" spc="-1" strike="noStrike">
                <a:solidFill>
                  <a:srgbClr val="314b5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314b56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uitleg fight/flight/freeze en link naar stresssigna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CBE20-9FA3-4AB1-A300-978C1A625741}" type="slidenum">
              <a:rPr b="0" lang="en-US" sz="1200" spc="-1" strike="noStrike">
                <a:solidFill>
                  <a:srgbClr val="314b5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314b56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5630-2B40-4EED-8BEF-D387090D7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B5FD-0DD1-4FB4-A3A1-1E87F0E0FBC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B754-EB5B-4D55-B54A-9002E7B909B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4F2C-8DE4-4CDC-91E2-EE798F38EDA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825F-DF84-4218-B06E-C5B842B59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7319-33BF-4914-B396-92D1BD4476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3501-A757-4245-8205-F11CE4A450AA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F8FAC-4AA8-4A5E-9D9F-1FA3BECE5170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3C0E0-8C23-433B-8BFF-3475FACDAFB9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1BB0A-9D82-43D6-9D6D-676E8F4204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CF08C-A172-4EA8-9DFF-70CA60A2DAC4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2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3974-944B-46F6-9A7B-8F000DB6969E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6262-FE25-41B9-8C31-B6A4C3A48BE6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86C8D-E28B-4992-ACDF-44052C120C33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4C89-5F6B-4959-B11D-E48D54CE344D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68A3-539A-425B-97B8-17E377F01470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68AC-BCD6-40FA-A6D8-F432E7BEBDA3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47E1-0DE2-4C77-8768-EB6B5E0F06C6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EB617-CDEC-4DC3-AA8A-5101E1866414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0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38F-3514-4FD4-8135-21BFC7169DB9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FB82-D1F5-46B6-90E6-2960EC07971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113-F440-40F2-88CF-185E9DEB9E35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E4A7-88E5-4F83-B59A-3A0562CAFBC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193-B153-4718-A0F0-39006305279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B9C-36B4-420D-B811-CC8044940C2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CC1-3609-4894-A72C-E469A2B4413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1E1-613D-4AF3-B044-2A2FE218E9F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7ED-D74E-4823-BDB9-F9A4FC135F5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6AB-8AAA-415C-A8E2-FCEEA609C4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847-E178-48A3-9AE8-7847D5E7464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EC29-8825-40D1-BAC6-D2A365C44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952E-8E0E-4B7B-ADE8-12C0745B117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D31-CAD6-407E-9571-163436899F7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790C-FAD7-4F83-A787-F73A0CCB482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2024-45D3-41E6-B769-46163F9AAA3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13B3-9F64-42C4-9AEA-D1E73984137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93320"/>
            <a:ext cx="8234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eo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le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195200"/>
            <a:ext cx="82342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38720" y="5297040"/>
            <a:ext cx="46656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91bea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BEC1F-5652-4D9F-97B7-F7825261B267}" type="slidenum">
              <a:rPr b="0" lang="en-US" sz="600" spc="-1" strike="noStrike">
                <a:solidFill>
                  <a:srgbClr val="91bea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7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6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hthoek 3"/>
          <p:cNvSpPr/>
          <p:nvPr/>
        </p:nvSpPr>
        <p:spPr>
          <a:xfrm>
            <a:off x="522360" y="1477800"/>
            <a:ext cx="3537000" cy="314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pic>
        <p:nvPicPr>
          <p:cNvPr id="779" name="Picture 8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7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hthoek 3"/>
          <p:cNvSpPr/>
          <p:nvPr/>
        </p:nvSpPr>
        <p:spPr>
          <a:xfrm>
            <a:off x="522360" y="1477800"/>
            <a:ext cx="8101080" cy="3179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pic>
        <p:nvPicPr>
          <p:cNvPr id="858" name="Picture 7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7354800" cy="5715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1051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93320"/>
            <a:ext cx="8234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eo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le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6840" y="1195200"/>
            <a:ext cx="82342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246" name="Rechthoek 4"/>
          <p:cNvSpPr/>
          <p:nvPr/>
        </p:nvSpPr>
        <p:spPr>
          <a:xfrm>
            <a:off x="2292480" y="2399760"/>
            <a:ext cx="4572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7842a4"/>
                </a:solidFill>
                <a:latin typeface="Arial Black"/>
              </a:rPr>
              <a:t>Vragen of</a:t>
            </a:r>
            <a:br>
              <a:rPr sz="2800"/>
            </a:br>
            <a:r>
              <a:rPr b="0" lang="nl-NL" sz="2800" spc="-1" strike="noStrike">
                <a:solidFill>
                  <a:srgbClr val="7842a4"/>
                </a:solidFill>
                <a:latin typeface="Arial Black"/>
              </a:rPr>
              <a:t>opmerkingen?</a:t>
            </a:r>
            <a:endParaRPr b="0" lang="en-US" sz="2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99-end-white.png"/>
          <p:cNvPicPr/>
          <p:nvPr/>
        </p:nvPicPr>
        <p:blipFill>
          <a:blip r:embed="rId3"/>
          <a:srcRect l="1237" t="0" r="0" b="0"/>
          <a:stretch/>
        </p:blipFill>
        <p:spPr>
          <a:xfrm>
            <a:off x="0" y="409680"/>
            <a:ext cx="7818480" cy="4824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93320"/>
            <a:ext cx="8234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eo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le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195200"/>
            <a:ext cx="82342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2"/>
          </p:nvPr>
        </p:nvSpPr>
        <p:spPr>
          <a:xfrm>
            <a:off x="4338720" y="5297040"/>
            <a:ext cx="46656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91bea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649C5-7269-4885-B5A5-5715206F8D14}" type="slidenum">
              <a:rPr b="0" lang="en-US" sz="600" spc="-1" strike="noStrike">
                <a:solidFill>
                  <a:srgbClr val="91bea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93320"/>
            <a:ext cx="8234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eo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le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6840" y="1195200"/>
            <a:ext cx="82342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4338720" y="5297040"/>
            <a:ext cx="46656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91bea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1DA1E-C3F3-4FC1-95AF-09B43E63DC46}" type="slidenum">
              <a:rPr b="0" lang="en-US" sz="600" spc="-1" strike="noStrike">
                <a:solidFill>
                  <a:srgbClr val="91bea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erk.belgie.be/moduledefault.aspx?id=33630" TargetMode="Externa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0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2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 txBox="1"/>
          <p:nvPr/>
        </p:nvSpPr>
        <p:spPr>
          <a:xfrm>
            <a:off x="1552320" y="2900160"/>
            <a:ext cx="477972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ts val="2336"/>
              </a:lnSpc>
              <a:spcBef>
                <a:spcPts val="57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Black"/>
                <a:ea typeface="Aleo"/>
              </a:rPr>
              <a:t>Hoe gaan we om met onze energie?</a:t>
            </a:r>
            <a:endParaRPr b="0" lang="en-US" sz="23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552320" y="2084040"/>
            <a:ext cx="4779720" cy="5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nl-BE" sz="3100" spc="-1" strike="noStrike">
                <a:solidFill>
                  <a:srgbClr val="ffffff"/>
                </a:solidFill>
                <a:latin typeface="Arial Black"/>
              </a:rPr>
              <a:t>Stress en Burn-out”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225000" y="196848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nl-BE" sz="3200" spc="-1" strike="noStrike">
                <a:solidFill>
                  <a:srgbClr val="7842a4"/>
                </a:solidFill>
                <a:latin typeface="Aleo"/>
                <a:ea typeface="Aleo"/>
              </a:rPr>
              <a:t>Stressbeleving</a:t>
            </a:r>
            <a:endParaRPr b="0" lang="en-US" sz="32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520560" y="-6840"/>
            <a:ext cx="72835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Hoe stress voorkomen en aanpakken?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Black"/>
              </a:rPr>
              <a:t>Balans</a:t>
            </a:r>
            <a:r>
              <a:rPr b="0" lang="nl-BE" sz="2400" spc="-1" strike="noStrike">
                <a:solidFill>
                  <a:srgbClr val="000000"/>
                </a:solidFill>
                <a:latin typeface="Arial Black"/>
              </a:rPr>
              <a:t> in evenwicht brengen door: </a:t>
            </a:r>
            <a:endParaRPr b="0" lang="en-US" sz="24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Veerkracht en weerbaarheid te verhogen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EN/OF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Stresserende situaties/oorzaken aan te pakken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=&gt; Zowel preventief als curatief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225000" y="196848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Oorzaken van stress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Stress beheersen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 Black"/>
              </a:rPr>
              <a:t>Eerste stap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nl-BE" sz="1700" spc="-1" strike="noStrike">
                <a:solidFill>
                  <a:srgbClr val="000000"/>
                </a:solidFill>
                <a:latin typeface="Arial"/>
              </a:rPr>
              <a:t>In kaart brengen 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van stressfactoren/oorzaken :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-&gt; waar heb ik impact op? Wat is er veranderbaar?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-&gt; waar heb ik geen impact op? Wat is niet veranderbaar?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=&gt; Coping/hantering hierop afstemmen!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225000" y="196848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Stressbeheersing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Stress beheersen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456840" y="1195200"/>
            <a:ext cx="40482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70c0"/>
                </a:solidFill>
                <a:latin typeface="Arial Black"/>
              </a:rPr>
              <a:t>VERANDERBAAR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=&gt; </a:t>
            </a:r>
            <a:r>
              <a:rPr b="0" lang="nl-BE" sz="1700" spc="-1" strike="noStrike" u="sng">
                <a:solidFill>
                  <a:srgbClr val="000000"/>
                </a:solidFill>
                <a:uFillTx/>
                <a:latin typeface="Arial Black"/>
              </a:rPr>
              <a:t>Oplossingsgerichte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stressbeheersing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Actief aanpakken van stressbronnen / 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oorzaken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6840" y="655560"/>
            <a:ext cx="823428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1700" spc="-1" strike="noStrike">
              <a:solidFill>
                <a:srgbClr val="6aa193"/>
              </a:solidFill>
              <a:latin typeface="Arial Black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4642920" y="1195200"/>
            <a:ext cx="40482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ff0000"/>
                </a:solidFill>
                <a:latin typeface="Arial Black"/>
              </a:rPr>
              <a:t>NIET VERANDERBAAR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=&gt; </a:t>
            </a:r>
            <a:r>
              <a:rPr b="0" lang="nl-BE" sz="1700" spc="-1" strike="noStrike" u="sng">
                <a:solidFill>
                  <a:srgbClr val="000000"/>
                </a:solidFill>
                <a:uFillTx/>
                <a:latin typeface="Arial Black"/>
              </a:rPr>
              <a:t>Emotiegerichte 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stressbeheersing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Omgaan met stressbronnen die ik niet 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kan veranderen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225000" y="196848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Aan de slag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Aan de slag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-&gt; welk actiepunt (oplossingsgericht of emotiegericht) neem jij de volgende maanden op?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buClr>
                <a:srgbClr val="7842a4"/>
              </a:buClr>
              <a:buFont typeface="Symbol" charset="2"/>
              <a:buChar char="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Maak een actieplan op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685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at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anneer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at heb ik ervoor nodi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e ga ik dit evalueren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6840" y="655560"/>
            <a:ext cx="823428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af87cf"/>
                </a:solidFill>
                <a:latin typeface="Arial Black"/>
              </a:rPr>
              <a:t>Eigen</a:t>
            </a:r>
            <a:r>
              <a:rPr b="0" lang="nl-BE" sz="1700" spc="-1" strike="noStrike">
                <a:solidFill>
                  <a:srgbClr val="c9afdf"/>
                </a:solidFill>
                <a:latin typeface="Arial Black"/>
              </a:rPr>
              <a:t> </a:t>
            </a:r>
            <a:r>
              <a:rPr b="0" lang="nl-BE" sz="1700" spc="-1" strike="noStrike">
                <a:solidFill>
                  <a:srgbClr val="af87cf"/>
                </a:solidFill>
                <a:latin typeface="Arial Black"/>
              </a:rPr>
              <a:t>actieplan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98040" y="181116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Vragen?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/>
          </p:nvPr>
        </p:nvSpPr>
        <p:spPr>
          <a:xfrm>
            <a:off x="522000" y="1447560"/>
            <a:ext cx="8101080" cy="33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 Black"/>
              </a:rPr>
              <a:t>Team We Care for You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 Black"/>
              </a:rPr>
              <a:t>Vertrouwenspersoon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 Black"/>
              </a:rPr>
              <a:t>Liantis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"/>
              </a:rPr>
              <a:t>Arbeidsarts: …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"/>
              </a:rPr>
              <a:t>Team psychosociaal welzijn: …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</a:rPr>
              <a:t>Contactgegevens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6840" y="88560"/>
            <a:ext cx="823428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Inhoudstafel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456840" y="825120"/>
            <a:ext cx="823428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Inleiding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Inzicht in het fenomeen stress, burn-ou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Stressbeleving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Oorzaken van stress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Stressbeheersing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761760" y="179532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Inleiding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Inleiding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2017: Tevredenheidsenquête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=&gt; Over het algemeen veel stress, maar wel sterk afhankelijk van afdeling tot afdeling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buClr>
                <a:srgbClr val="7842a4"/>
              </a:buClr>
              <a:buFont typeface="Symbol" charset="2"/>
              <a:buChar char="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Inzetten op preventie en aanpak van stress en BO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(2019: We Care For You)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buClr>
                <a:srgbClr val="7842a4"/>
              </a:buClr>
              <a:buFont typeface="Symbol" charset="2"/>
              <a:buChar char="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buClr>
                <a:srgbClr val="7842a4"/>
              </a:buClr>
              <a:buFont typeface="Symbol" charset="2"/>
              <a:buChar char="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Voorjaar 2018: sessies leidinggevenden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buClr>
                <a:srgbClr val="7842a4"/>
              </a:buClr>
              <a:buFont typeface="Symbol" charset="2"/>
              <a:buChar char="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Najaar 2018 + 2019: sessies per team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20440" y="213984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Inzicht in het fenomeen stress/burn-out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/>
          </p:nvPr>
        </p:nvSpPr>
        <p:spPr>
          <a:xfrm>
            <a:off x="522000" y="1447560"/>
            <a:ext cx="8101080" cy="33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 Black"/>
              </a:rPr>
              <a:t>Hoe merk je stress op bij jezelf?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 Black"/>
              </a:rPr>
              <a:t>Welke stresssignalen zie je soms bij anderen?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</a:rPr>
              <a:t>Stresssignalen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Stress en burn-ou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456840" y="4684680"/>
            <a:ext cx="823428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7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100" spc="-1" strike="noStrike">
                <a:solidFill>
                  <a:srgbClr val="7842a4"/>
                </a:solidFill>
                <a:latin typeface="Arial Black"/>
                <a:ea typeface="ＭＳ Ｐゴシック"/>
              </a:rPr>
              <a:t>Bron: Onderzoek naar burnout bij de Belgische beroepsbevolking: samenvatting van het eindverslag (</a:t>
            </a:r>
            <a:r>
              <a:rPr b="0" lang="nl-BE" sz="1100" spc="-1" strike="noStrike" u="sng">
                <a:solidFill>
                  <a:srgbClr val="86878a"/>
                </a:solidFill>
                <a:uFillTx/>
                <a:latin typeface="Arial Black"/>
                <a:ea typeface="ＭＳ Ｐゴシック"/>
                <a:hlinkClick r:id="rId1"/>
              </a:rPr>
              <a:t>http://www.werk.belgie.be/moduledefault.aspx?id=33630</a:t>
            </a:r>
            <a:r>
              <a:rPr b="0" lang="nl-BE" sz="1100" spc="-1" strike="noStrike">
                <a:solidFill>
                  <a:srgbClr val="7842a4"/>
                </a:solidFill>
                <a:latin typeface="Arial Black"/>
                <a:ea typeface="ＭＳ Ｐゴシック"/>
              </a:rPr>
              <a:t>, 2015)</a:t>
            </a:r>
            <a:endParaRPr b="0" lang="en-US" sz="1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6840" y="655560"/>
            <a:ext cx="823428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af87cf"/>
                </a:solidFill>
                <a:latin typeface="Arial Black"/>
              </a:rPr>
              <a:t>Gevolgen voor het individu (evenals signalen)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pic>
        <p:nvPicPr>
          <p:cNvPr id="1653" name="Diagram 1" descr=""/>
          <p:cNvPicPr/>
          <p:nvPr/>
        </p:nvPicPr>
        <p:blipFill>
          <a:blip r:embed="rId2"/>
          <a:stretch/>
        </p:blipFill>
        <p:spPr>
          <a:xfrm>
            <a:off x="560520" y="822240"/>
            <a:ext cx="800388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Wat is stress?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5857920" y="2049480"/>
            <a:ext cx="2419200" cy="19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nl-BE" sz="2200" spc="-1" strike="noStrike">
                <a:solidFill>
                  <a:srgbClr val="7842a4"/>
                </a:solidFill>
                <a:latin typeface="Arial Black"/>
                <a:ea typeface="ＭＳ Ｐゴシック"/>
              </a:rPr>
              <a:t>Draagkracht</a:t>
            </a:r>
            <a:endParaRPr b="0" lang="en-US" sz="22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= </a:t>
            </a: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gelijkheden</a:t>
            </a: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rktes</a:t>
            </a: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e steun</a:t>
            </a: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655560"/>
            <a:ext cx="823428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1700" spc="-1" strike="noStrike">
              <a:solidFill>
                <a:srgbClr val="6aa193"/>
              </a:solidFill>
              <a:latin typeface="Arial Black"/>
              <a:ea typeface="ＭＳ Ｐゴシック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-125640" y="2081160"/>
            <a:ext cx="2711160" cy="25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nl-BE" sz="2400" spc="-1" strike="noStrike">
                <a:solidFill>
                  <a:srgbClr val="7842a4"/>
                </a:solidFill>
                <a:latin typeface="Arial Black"/>
                <a:ea typeface="ＭＳ Ｐゴシック"/>
              </a:rPr>
              <a:t>Draaglast</a:t>
            </a:r>
            <a:endParaRPr b="0" lang="en-US" sz="24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=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sen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lvl="1" marL="51444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wach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Picture 2" descr=""/>
          <p:cNvPicPr/>
          <p:nvPr/>
        </p:nvPicPr>
        <p:blipFill>
          <a:blip r:embed="rId1"/>
          <a:stretch/>
        </p:blipFill>
        <p:spPr>
          <a:xfrm>
            <a:off x="2852640" y="1841400"/>
            <a:ext cx="2467080" cy="21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Wat is burn-out? 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522000" y="1221840"/>
            <a:ext cx="810108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Arial Black"/>
              </a:rPr>
              <a:t>= Energiestoornis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6840" y="655560"/>
            <a:ext cx="823428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1700" spc="-1" strike="noStrike">
              <a:solidFill>
                <a:srgbClr val="fffea8"/>
              </a:solidFill>
              <a:latin typeface="Arial Black"/>
            </a:endParaRPr>
          </a:p>
        </p:txBody>
      </p:sp>
      <p:pic>
        <p:nvPicPr>
          <p:cNvPr id="1662" name="Picture 2" descr=""/>
          <p:cNvPicPr/>
          <p:nvPr/>
        </p:nvPicPr>
        <p:blipFill>
          <a:blip r:embed="rId1"/>
          <a:stretch/>
        </p:blipFill>
        <p:spPr>
          <a:xfrm>
            <a:off x="723960" y="1960560"/>
            <a:ext cx="769608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17:54:59Z</dcterms:created>
  <dc:creator>Andy Van Laer</dc:creator>
  <dc:description/>
  <dc:language>en-US</dc:language>
  <cp:lastModifiedBy>Nicolas Claus</cp:lastModifiedBy>
  <dcterms:modified xsi:type="dcterms:W3CDTF">2020-02-03T10:56:19Z</dcterms:modified>
  <cp:revision>367</cp:revision>
  <dc:subject/>
  <dc:title>ADMB PowerPoint The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F7F2909C47A14CBDA1A09A10F70626</vt:lpwstr>
  </property>
</Properties>
</file>